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cashreg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  <p:custShowLst>
    <p:custShow name="Custom Show 1" id="0">
      <p:sldLst>
        <p:sld r:id="rId3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BA50-4D47-4B7D-9635-3F099A260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82DC-6B75-4AB9-9D14-80778301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232A-5CA5-4A55-B927-A2E6EFE6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9F6D-2B83-4460-BC69-1AA817655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9B1B-CDFB-46AC-AE3D-E89A80E49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C628-F9A0-459B-AF75-F24AB810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4D57-0E35-4C32-8421-37F903506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2A84-B224-425C-9A08-EAB492AB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CAC0-5071-493E-AF15-723153864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3CEF-F302-4F89-A422-382107C8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39C6-CA97-42F3-84DA-0EBE1C67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4E5D-D804-4E81-98AF-AAE296DCB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C421-D0C1-45E7-9EE5-FE3DE0216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09680" y="3276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2" name="millionaire%20money%20list" descr=""/>
          <p:cNvPicPr/>
          <p:nvPr/>
        </p:nvPicPr>
        <p:blipFill>
          <a:blip r:embed="rId2"/>
          <a:stretch/>
        </p:blipFill>
        <p:spPr>
          <a:xfrm>
            <a:off x="4821120" y="304920"/>
            <a:ext cx="4056120" cy="6172200"/>
          </a:xfrm>
          <a:prstGeom prst="rect">
            <a:avLst/>
          </a:prstGeom>
          <a:ln w="0">
            <a:noFill/>
          </a:ln>
        </p:spPr>
      </p:pic>
      <p:pic>
        <p:nvPicPr>
          <p:cNvPr id="43" name="millionaire%20logo%20small" descr=""/>
          <p:cNvPicPr/>
          <p:nvPr/>
        </p:nvPicPr>
        <p:blipFill>
          <a:blip r:embed="rId3"/>
          <a:stretch/>
        </p:blipFill>
        <p:spPr>
          <a:xfrm>
            <a:off x="609480" y="1981080"/>
            <a:ext cx="3429000" cy="2898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800600" y="2133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00600" y="1752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251460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00600" y="28954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00600" y="4495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00600" y="411480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3733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32767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2952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00600" y="91440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525780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00600" y="56386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48769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609588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33520"/>
            <a:ext cx="228600" cy="228600"/>
          </a:xfrm>
          <a:prstGeom prst="ellipse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238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240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243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254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58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60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263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5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275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282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284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287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298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02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04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07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319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326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328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331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3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342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46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48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51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3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363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370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372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375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7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386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390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392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395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7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407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414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416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8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419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21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430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434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436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439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1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451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2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4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67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78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82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84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87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458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460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463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5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474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478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480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483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5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495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7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02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3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04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07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9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518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522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3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524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6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527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9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539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46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7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48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51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3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1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562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566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568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571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3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583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590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592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595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7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606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10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612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615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7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627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34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5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36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639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1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650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54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5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656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659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1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671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3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99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678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680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683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5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694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698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9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700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703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5" name=""/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3" name="cashreg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715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millionaire%20logo%20small" descr=""/>
          <p:cNvPicPr/>
          <p:nvPr/>
        </p:nvPicPr>
        <p:blipFill>
          <a:blip r:embed="rId1"/>
          <a:stretch/>
        </p:blipFill>
        <p:spPr>
          <a:xfrm>
            <a:off x="3276720" y="2362320"/>
            <a:ext cx="2531880" cy="213984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2920320" y="557280"/>
            <a:ext cx="3333960" cy="764280"/>
          </a:xfrm>
          <a:prstGeom prst="rect">
            <a:avLst/>
          </a:prstGeom>
          <a:noFill/>
          <a:ln w="0">
            <a:noFill/>
          </a:ln>
          <a:effectLst>
            <a:outerShdw dist="11448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reat Job!!!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712160" y="5129280"/>
            <a:ext cx="5734080" cy="764280"/>
          </a:xfrm>
          <a:prstGeom prst="rect">
            <a:avLst/>
          </a:prstGeom>
          <a:noFill/>
          <a:ln w="0">
            <a:noFill/>
          </a:ln>
          <a:effectLst>
            <a:outerShdw dist="89808" dir="49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Thank you for play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cashreg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06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08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11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122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126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128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131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143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50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52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55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166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170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172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175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187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8600" y="228600"/>
            <a:ext cx="8686800" cy="640080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65760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28600" y="3962520"/>
            <a:ext cx="8686800" cy="990360"/>
            <a:chOff x="228600" y="3962520"/>
            <a:chExt cx="8686800" cy="990360"/>
          </a:xfrm>
        </p:grpSpPr>
        <p:sp>
          <p:nvSpPr>
            <p:cNvPr id="194" name=""/>
            <p:cNvSpPr/>
            <p:nvPr/>
          </p:nvSpPr>
          <p:spPr>
            <a:xfrm>
              <a:off x="4419720" y="44593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724280" y="3962520"/>
              <a:ext cx="4191120" cy="990360"/>
              <a:chOff x="4724280" y="3962520"/>
              <a:chExt cx="4191120" cy="990360"/>
            </a:xfrm>
          </p:grpSpPr>
          <p:sp>
            <p:nvSpPr>
              <p:cNvPr id="196" name=""/>
              <p:cNvSpPr/>
              <p:nvPr/>
            </p:nvSpPr>
            <p:spPr>
              <a:xfrm>
                <a:off x="84582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72428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228600" y="3962520"/>
              <a:ext cx="4191120" cy="990360"/>
              <a:chOff x="228600" y="3962520"/>
              <a:chExt cx="4191120" cy="990360"/>
            </a:xfrm>
          </p:grpSpPr>
          <p:sp>
            <p:nvSpPr>
              <p:cNvPr id="199" name=""/>
              <p:cNvSpPr/>
              <p:nvPr/>
            </p:nvSpPr>
            <p:spPr>
              <a:xfrm flipH="1">
                <a:off x="228600" y="44593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685800" y="39625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">
            <a:hlinkClick r:id="rId1" action="ppaction://hlinksldjump"/>
          </p:cNvPr>
          <p:cNvSpPr/>
          <p:nvPr/>
        </p:nvSpPr>
        <p:spPr>
          <a:xfrm>
            <a:off x="495288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15328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914400" y="43228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14800" y="44197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43279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4120" y="43279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B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42670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42670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685800" y="609480"/>
            <a:ext cx="7848720" cy="2743200"/>
            <a:chOff x="685800" y="609480"/>
            <a:chExt cx="7848720" cy="2743200"/>
          </a:xfrm>
        </p:grpSpPr>
        <p:sp>
          <p:nvSpPr>
            <p:cNvPr id="210" name=""/>
            <p:cNvSpPr/>
            <p:nvPr/>
          </p:nvSpPr>
          <p:spPr>
            <a:xfrm>
              <a:off x="685800" y="609480"/>
              <a:ext cx="7848720" cy="2743200"/>
            </a:xfrm>
            <a:prstGeom prst="flowChartAlternateProcess">
              <a:avLst/>
            </a:prstGeom>
            <a:solidFill>
              <a:srgbClr val="000000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#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c0c0"/>
                  </a:solidFill>
                  <a:latin typeface="Arial"/>
                </a:rPr>
                <a:t>Write the Question 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8080" y="1828800"/>
              <a:ext cx="30492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8077320" y="1828800"/>
              <a:ext cx="304560" cy="304920"/>
            </a:xfrm>
            <a:prstGeom prst="diamond">
              <a:avLst/>
            </a:prstGeom>
            <a:solidFill>
              <a:srgbClr val="ff9933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28600" y="5334120"/>
            <a:ext cx="8686800" cy="990360"/>
            <a:chOff x="228600" y="5334120"/>
            <a:chExt cx="8686800" cy="990360"/>
          </a:xfrm>
        </p:grpSpPr>
        <p:sp>
          <p:nvSpPr>
            <p:cNvPr id="214" name=""/>
            <p:cNvSpPr/>
            <p:nvPr/>
          </p:nvSpPr>
          <p:spPr>
            <a:xfrm>
              <a:off x="4419720" y="5830920"/>
              <a:ext cx="3045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4724280" y="5334120"/>
              <a:ext cx="4191120" cy="990360"/>
              <a:chOff x="4724280" y="5334120"/>
              <a:chExt cx="4191120" cy="990360"/>
            </a:xfrm>
          </p:grpSpPr>
          <p:sp>
            <p:nvSpPr>
              <p:cNvPr id="216" name=""/>
              <p:cNvSpPr/>
              <p:nvPr/>
            </p:nvSpPr>
            <p:spPr>
              <a:xfrm>
                <a:off x="84582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72428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228600" y="5334120"/>
              <a:ext cx="4191120" cy="990360"/>
              <a:chOff x="228600" y="5334120"/>
              <a:chExt cx="4191120" cy="990360"/>
            </a:xfrm>
          </p:grpSpPr>
          <p:sp>
            <p:nvSpPr>
              <p:cNvPr id="219" name=""/>
              <p:cNvSpPr/>
              <p:nvPr/>
            </p:nvSpPr>
            <p:spPr>
              <a:xfrm flipH="1">
                <a:off x="228600" y="5830920"/>
                <a:ext cx="457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685800" y="5334120"/>
                <a:ext cx="3733920" cy="990360"/>
              </a:xfrm>
              <a:prstGeom prst="flowChartPreparation">
                <a:avLst/>
              </a:prstGeom>
              <a:solidFill>
                <a:srgbClr val="000000"/>
              </a:solidFill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1" name="">
            <a:hlinkClick r:id="rId3" action="ppaction://hlinksldjump"/>
          </p:cNvPr>
          <p:cNvSpPr/>
          <p:nvPr/>
        </p:nvSpPr>
        <p:spPr>
          <a:xfrm>
            <a:off x="495288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15328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4" action="ppaction://hlinksldjump"/>
          </p:cNvPr>
          <p:cNvSpPr/>
          <p:nvPr/>
        </p:nvSpPr>
        <p:spPr>
          <a:xfrm>
            <a:off x="914400" y="5694480"/>
            <a:ext cx="304920" cy="304560"/>
          </a:xfrm>
          <a:prstGeom prst="diamond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114800" y="5791320"/>
            <a:ext cx="92160" cy="91800"/>
          </a:xfrm>
          <a:prstGeom prst="flowChartConnector">
            <a:avLst/>
          </a:prstGeom>
          <a:gradFill rotWithShape="0">
            <a:gsLst>
              <a:gs pos="0">
                <a:srgbClr val="b2b2b2"/>
              </a:gs>
              <a:gs pos="100000">
                <a:srgbClr val="80808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360" bIns="18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699520"/>
            <a:ext cx="30492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C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4120" y="5699520"/>
            <a:ext cx="304560" cy="2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 Black"/>
              </a:rPr>
              <a:t>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5638680"/>
            <a:ext cx="21337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5638680"/>
            <a:ext cx="2133720" cy="30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c0c0"/>
                </a:solidFill>
                <a:latin typeface="Arial"/>
              </a:rPr>
              <a:t>Write an answer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5" name="cashreg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399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838080" y="914400"/>
            <a:ext cx="7467840" cy="4876920"/>
          </a:xfrm>
          <a:prstGeom prst="flowChartAlternateProcess">
            <a:avLst/>
          </a:pr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371960" y="2133720"/>
            <a:ext cx="6019560" cy="2589840"/>
            <a:chOff x="1371960" y="2133720"/>
            <a:chExt cx="6019560" cy="2589840"/>
          </a:xfrm>
        </p:grpSpPr>
        <p:sp>
          <p:nvSpPr>
            <p:cNvPr id="231" name=""/>
            <p:cNvSpPr/>
            <p:nvPr/>
          </p:nvSpPr>
          <p:spPr>
            <a:xfrm flipH="1">
              <a:off x="1371960" y="3432600"/>
              <a:ext cx="6566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2028240" y="2133720"/>
              <a:ext cx="5362920" cy="2589840"/>
            </a:xfrm>
            <a:prstGeom prst="flowChartPreparation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3124080" y="21337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ype the answer he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685800" y="609588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4d4d4d"/>
              </a:gs>
              <a:gs pos="50000">
                <a:srgbClr val="b2b2b2"/>
              </a:gs>
              <a:gs pos="100000">
                <a:srgbClr val="4d4d4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  <p:sndAc>
      <p:stSnd>
        <p:snd r:embed="rId1" name="cashreg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3T23:42:16Z</dcterms:created>
  <dc:creator>STANLEY</dc:creator>
  <dc:description/>
  <dc:language>en-US</dc:language>
  <cp:lastModifiedBy>srubin</cp:lastModifiedBy>
  <cp:lastPrinted>2000-05-03T23:45:17Z</cp:lastPrinted>
  <dcterms:modified xsi:type="dcterms:W3CDTF">2001-10-05T14:10:23Z</dcterms:modified>
  <cp:revision>30</cp:revision>
  <dc:subject/>
  <dc:title>No Slide Title</dc:title>
</cp:coreProperties>
</file>